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CE4-3D17-465F-A5A7-7C47D693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7710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3F2-1832-4D70-A0E5-F56C75CB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74F-AE2D-428C-996F-AED64F89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FC9-7F3C-416F-AF14-1E58C87F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5C54-FAE9-4FDD-BD8E-E6E3DDCE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80B5-F24E-4D79-B015-84E4EDCB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02C1-BA8D-4353-998B-B87AD453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4E7D-D67C-4A50-BA5F-B35F564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551A-9C51-4DCD-815B-E01E0EF4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F794-288B-4C86-BBC6-9AF6D2AF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70D0-2228-40CF-8DB1-D4D887E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568-580F-4EBB-B7DA-2F554EA4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253D-6EDC-469E-AE65-093AFDA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C33C-409F-4004-B6A9-05789980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7710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08BC-7976-4045-8DC4-AB7F018F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A801-08B6-4E4C-AEF4-4A071F22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6F05-ABE0-42C9-BF37-F83F5C75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55C-E485-433B-ABAF-BF58142B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A5E-F011-4D4B-945C-78242283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458-9073-4776-9EBB-CCCAE27B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970-1C22-4D22-A822-CB26113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A8D-B652-4FDD-B4F6-331D1C25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5F2-E402-4D9F-9644-8429022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CE9-CFE3-45B3-B7F3-00303B0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39720" cy="6856560"/>
            <a:chOff x="0" y="0"/>
            <a:chExt cx="153972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>
              <a:off x="1219320" y="3586320"/>
              <a:ext cx="320400" cy="1831680"/>
            </a:xfrm>
            <a:prstGeom prst="pie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BB36-6DE2-4211-9D34-9BE7C09A9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Group 3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Group 4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AutoShape 5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AutoShape 6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rc 11"/>
                <p:cNvSpPr/>
                <p:nvPr/>
              </p:nvSpPr>
              <p:spPr>
                <a:xfrm rot="10485000">
                  <a:off x="2004120" y="3556800"/>
                  <a:ext cx="1148040" cy="1359000"/>
                </a:xfrm>
                <a:prstGeom prst="pie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297F-EEB4-4F11-9F0A-6E91F0BEC7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hapter 22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PROGRESSIVE ER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181120" y="30481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rrigation and Conservation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n the West to 1917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0" name="Picture 4" descr="DIVI7233469"/>
          <p:cNvPicPr/>
          <p:nvPr/>
        </p:nvPicPr>
        <p:blipFill>
          <a:blip r:embed="rId1"/>
          <a:stretch/>
        </p:blipFill>
        <p:spPr>
          <a:xfrm>
            <a:off x="3505320" y="1905120"/>
            <a:ext cx="3282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omen and Children at Work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resisted ideals of domesticity to enter wor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labor unions defended rights of women, child labo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ppard-Towner Act 1921: Protected health of pregnant workers and their inf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Niagara Movement and the NAACP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frican Americans were poor sharecroppers, segregated by Jim Crow Laws and at mercy of violent white m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workers gained least from prospe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5: W.E.B. DuBois, others rejected accommodation to racist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Niagara Movement" demands immediate respect for equal rights of 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ACP, Urban League, advocate  African American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"I Hear the Whistle": Immigrants in the Labor Forc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1–1920: Fresh influx of Europeans, Mexicans, Asians to labor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English speakers considered a soci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s to "Americanize"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igration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ese immigration banned in 19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cy tests used against other immigra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mmigration to the United States, 1900–1920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(by area of origin)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6" name="Picture 6" descr="DIVI463"/>
          <p:cNvPicPr/>
          <p:nvPr/>
        </p:nvPicPr>
        <p:blipFill>
          <a:blip r:embed="rId1"/>
          <a:stretch/>
        </p:blipFill>
        <p:spPr>
          <a:xfrm>
            <a:off x="3352680" y="2362320"/>
            <a:ext cx="356076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exican Immigration to the United States, 1900–1920 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0" name="Picture 6" descr="DIVI464"/>
          <p:cNvPicPr/>
          <p:nvPr/>
        </p:nvPicPr>
        <p:blipFill>
          <a:blip r:embed="rId1"/>
          <a:stretch/>
        </p:blipFill>
        <p:spPr>
          <a:xfrm>
            <a:off x="3124080" y="1905120"/>
            <a:ext cx="4086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onflict in the Workplac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wages combined with demands for increased productivity led to increase in labor unrest in early 19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productivity f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membership soa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Organizing Labo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F.L., led by Samuel Gompers was the largest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3: Women excluded from A.F.L. form Women's Trade Union Leag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5: Others excluded from A.F.L. form Industrial Workers of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cal organizations win spectacular strikes with small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s of class warfare incr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Labor Union Membership,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1897–1920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0" name="Picture 4" descr="DIVI7233476"/>
          <p:cNvPicPr/>
          <p:nvPr/>
        </p:nvPicPr>
        <p:blipFill>
          <a:blip r:embed="rId1"/>
          <a:stretch/>
        </p:blipFill>
        <p:spPr>
          <a:xfrm>
            <a:off x="3193920" y="1905120"/>
            <a:ext cx="4043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orking with Worker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rs improved working conditions to avoid tro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Ford doubled wages, reduced work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production incr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activity 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Changing Face of Industrialis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growth meant more goods at lower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e of social problems from 189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entury began on optimistic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moskeag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skeag mills modeled paternalistic approach to labor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y hired whole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included playgrounds, health care, home-buying plans, 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 New Urban Cultur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production required mass consum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middle class consumed new inventions and enter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roduction and Consump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0–1920: New advertising techniques created demand for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s increased U.S. standard of li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lth increasingly concentr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iving and Dying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n an Urban Na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20, the average life span increased substantially, infant mortality still 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ming cities took on moder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ing regulations, first in Los Angles,  separated industrial, commercial, residenti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opular Pastim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inary people achieved leisure for first time in American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ator pastimes included baseball,  football, movies, conc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r music: Sousa marches, ragtime, blues, jazz, vaudev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reading included romance, detective, science-fiction nove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Experimentation in the Art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ce: Isadora Dunc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ing: Ashcan School, post-Impressioni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try: T.S. Eliot and Ezra P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 Ferment of Discovery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nd Refor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ism, labor conflict rem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social and economic gains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sm that social experiments can succ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Innovative Model 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Ford transformed auto industry with mass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profit on each unit, gross of huge profit on high volume of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8: Model T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6: Federal government began highway subsi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8" name="Content Placeholder 3" descr="ford_model_t_henry.jpeg"/>
          <p:cNvPicPr/>
          <p:nvPr/>
        </p:nvPicPr>
        <p:blipFill>
          <a:blip r:embed="rId1"/>
          <a:srcRect l="-16028" t="0" r="-16028" b="0"/>
          <a:stretch/>
        </p:blipFill>
        <p:spPr>
          <a:xfrm>
            <a:off x="11430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Burgeoning Trust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nd toward bigness in industry accelerated after 19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ers provided integrated control through interlocking directo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s controvers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enounced as threats to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efended as more e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Business Consolidations (mergers), 1895–1905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6" descr="DIVI455"/>
          <p:cNvPicPr/>
          <p:nvPr/>
        </p:nvPicPr>
        <p:blipFill>
          <a:blip r:embed="rId1"/>
          <a:stretch/>
        </p:blipFill>
        <p:spPr>
          <a:xfrm>
            <a:off x="2971800" y="2133720"/>
            <a:ext cx="4368960" cy="44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anaging the Machin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derick Taylor advocated “Scientific Management” to increase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 welfare, morale suff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pay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anger, ted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1: Triangle Shirtwaist Company fire demonstrated risks of factor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Society's Mass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expandsed rapidly to increase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, immigrants, blacks, Mexican Americans entered work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Better Times on the Far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reduced by mail and parcel post deliveries to f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ant farmers remained impoverish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farmers benefited from vast irrigation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20:42:58Z</dcterms:created>
  <dc:creator>Timothy Hall</dc:creator>
  <dc:description/>
  <cp:keywords/>
  <dc:language>en-US</dc:language>
  <cp:lastModifiedBy>Matthew Myers</cp:lastModifiedBy>
  <cp:lastPrinted>2012-09-11T10:32:31Z</cp:lastPrinted>
  <dcterms:modified xsi:type="dcterms:W3CDTF">2012-01-25T13:20:13Z</dcterms:modified>
  <cp:revision>16</cp:revision>
  <dc:subject/>
  <dc:title>CHAPTER 22 THE PROGRESSIVE ERA</dc:title>
</cp:coreProperties>
</file>